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3792B-384C-42B2-BC2B-465FCDD1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CB21-748C-487F-982B-EFE67BB8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0290-A7D4-43DF-8AE9-C2E1B18E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B118-F3DD-4AB7-A7ED-BD0B152B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77A5-1F3F-4DA3-8C62-80F6FA5C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ADA6-8C2C-473E-ABF9-1C2F18E5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2805-F72B-4755-8DBB-D6D42B48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2866-D462-4D0F-9FD3-78E4A086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F964-AD08-4AE6-BBA2-55C09D35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E631-B1C4-463C-98FE-9F2AEE53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0FD6-821D-49D7-9F00-5B291B90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0370-3251-4C65-AD9B-BFBA6D70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2C1D-9B82-4FAE-A8AD-B6604929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E3CD-16C6-4EC5-864B-5E9BE974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E06E-63B8-4E54-BD35-9096ED17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6FC4-1F94-4141-B5A6-2CCDEC32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7974-47D9-446D-A0E2-2D6E536E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9000-3756-40E6-AC49-5E18CF07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A027-0976-4397-832F-E6BE4AD4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FD69-3809-4EF7-8B25-5BA46E12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EE31-E753-437A-AA1E-B6C9E5A8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1345-4468-4D4D-BE92-DB467EE2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E083-B989-4BED-8E8D-5D261FB1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6B05-473A-4FCC-B1E5-93DCEEAF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1809-A679-4CBF-85C3-D06D5D03C4C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100C-B993-4936-9577-7A9E3507E31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32400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4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(Пр.169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Ах, вяра! Ах, преблаги дар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к, Боже мой, ста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е Ти - всемощен и пресвят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з дар за мен избра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2418480"/>
            <a:ext cx="96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Колко сърца от мое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-чисти Ти би взе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о колко души, по-добр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мен, би се допря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36360" y="243612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Най-мъчен труд, най-тежък кръст нищожни стават т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з свят за нищо се бро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м вярата изгре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243612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О, колко, колко весел съ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, вяро, като с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й скъпоценна в тоз живо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смъртта пък що ще си?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8-07T07:34:00Z</dcterms:modified>
  <cp:revision>78</cp:revision>
  <dc:subject/>
  <dc:title>Slide 1</dc:title>
</cp:coreProperties>
</file>